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73792"/>
        <c:axId val="95281667"/>
      </c:barChart>
      <c:catAx>
        <c:axId val="62173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81667"/>
        <c:crosses val="autoZero"/>
        <c:auto val="1"/>
        <c:lblAlgn val="ctr"/>
        <c:lblOffset val="100"/>
        <c:noMultiLvlLbl val="0"/>
      </c:catAx>
      <c:valAx>
        <c:axId val="95281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73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26D-85D9-4368-A905-19B7D94A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FD6-7EB5-4FA7-AE86-7B46F81D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644-07DB-465F-BBF8-6D28BB98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2AF-730C-404F-9617-1C15607D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BF1-3E78-4032-82B3-07CB1F0C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4BA-E92E-4312-AD85-155DB5BB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4B9-DA81-4E50-A0FD-2EDE7089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3FC-66EC-4083-B6B0-2342024B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F21-C3BC-4EFA-B131-667B11DA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C27-E79F-4CEE-B0F8-D802C6B2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FC6-6B86-4524-8C18-B89DD0A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522-A763-4CF0-AEC4-1DFB7347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25CC6-72FA-4EAE-B65B-E9BF327D97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