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7421"/>
        <c:axId val="75503685"/>
      </c:barChart>
      <c:catAx>
        <c:axId val="1017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3685"/>
        <c:crosses val="autoZero"/>
        <c:auto val="1"/>
        <c:lblAlgn val="ctr"/>
        <c:lblOffset val="100"/>
        <c:noMultiLvlLbl val="0"/>
      </c:catAx>
      <c:valAx>
        <c:axId val="75503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927-62AA-4BCC-9808-89885552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E88-F649-4F20-AB2B-9EF9076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26B-D5C8-456C-BA28-E28E9175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565-070D-45CC-8918-5CE081BB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A75-1781-4B21-8033-A69C06D1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5A5-8585-4BE6-AAF7-654ECB4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327-E300-48B2-ABD9-9262F847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396-DCFA-4238-A970-69B587FE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A22-5430-45FC-AEAA-5CF8C4B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D96-DC0F-406A-AB8E-05112A6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29-08BB-47FA-9391-4356B33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0D1-2EC3-4BDF-9288-9EBF34F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F5845-4F38-4D97-8287-491854E81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