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93766"/>
        <c:axId val="34334192"/>
      </c:barChart>
      <c:catAx>
        <c:axId val="18893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34192"/>
        <c:crosses val="autoZero"/>
        <c:auto val="1"/>
        <c:lblAlgn val="ctr"/>
        <c:lblOffset val="100"/>
        <c:noMultiLvlLbl val="0"/>
      </c:catAx>
      <c:valAx>
        <c:axId val="34334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93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291-E617-445F-8CAB-900F3791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6E3-4849-469F-AF4C-D88C3A35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72D-BE03-4DEF-9BEC-61AAFF98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55F-C6F4-44F1-A39C-3B645824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34A-FE97-4811-8161-314399A4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225-F383-44E7-8BC3-1B60996C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591-C48D-42EA-901B-B5F78801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19E-C37D-4D25-863F-9C9CFE4E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DDE-36B3-4B8D-B0B4-BB519493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674-898A-48AB-9FC9-CF9A3E30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180-777F-440A-BF19-AE18EB67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4E4-FDDF-467E-A88A-E880FFB1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11B57-7D1B-4C84-9508-7E3E522F0D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