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19081"/>
        <c:axId val="50504642"/>
      </c:barChart>
      <c:catAx>
        <c:axId val="61219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04642"/>
        <c:crosses val="autoZero"/>
        <c:auto val="1"/>
        <c:lblAlgn val="ctr"/>
        <c:lblOffset val="100"/>
        <c:noMultiLvlLbl val="0"/>
      </c:catAx>
      <c:valAx>
        <c:axId val="50504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19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0EA-8152-4494-AFCA-46BEF92F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E45-9EC1-4631-8C4B-29F5E4BB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D19-E28F-4816-987C-D064E871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280-AE9D-487D-AE43-B110DEAE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5B2-5466-430F-BAFF-548ECD2B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8BA-4431-4D2B-9ADE-586006F2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738-58EB-45C3-94F4-65492A65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915-7FBD-45A3-A319-69D0C84B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806-A920-4325-A097-5CF48DFF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539-6535-4F12-A0AA-E47778E9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F1D-5D6A-4C4D-A480-8D7E1A8E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348-1AE9-4EBE-99B9-F61CC87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F9223-09E2-4466-9AF9-02DE183027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