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06373"/>
        <c:axId val="76832927"/>
      </c:barChart>
      <c:catAx>
        <c:axId val="80006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32927"/>
        <c:crosses val="autoZero"/>
        <c:auto val="1"/>
        <c:lblAlgn val="ctr"/>
        <c:lblOffset val="100"/>
        <c:noMultiLvlLbl val="0"/>
      </c:catAx>
      <c:valAx>
        <c:axId val="76832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06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BD7-5CF4-4D44-8EFD-0A105C45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D05-3B49-46AA-8575-5112FC67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AFC6-6492-4F60-ABB8-71851E45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87E-6F9D-4E22-9DFA-9CFE446D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E7E-9E7F-4D93-A530-40ADF8FB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1E1-D9CC-45C6-B2E2-5C36CFF1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749-DFC8-4B47-9D80-71744C91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89E1-5DEF-435C-9CA2-9B9127EB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3A6-68D2-4A1C-9D1E-0D135616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7FA-8891-4D07-B69E-F8800824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045-DFCE-4232-9AE4-D19AA882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D01-BC69-4156-A65A-1953C97A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1267C-E1C7-4F49-A754-441DC9EC65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