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8408"/>
        <c:axId val="21956143"/>
      </c:barChart>
      <c:catAx>
        <c:axId val="26418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6143"/>
        <c:crosses val="autoZero"/>
        <c:auto val="1"/>
        <c:lblAlgn val="ctr"/>
        <c:lblOffset val="100"/>
        <c:noMultiLvlLbl val="0"/>
      </c:catAx>
      <c:valAx>
        <c:axId val="21956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8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A2D-7C7F-49D9-A39C-E4EE4295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E43-E0A7-4EF7-8837-4524F7DA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F8A-EA27-43DC-BA28-A8E4296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C63-8803-4F55-BE4F-DC2081BF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277-19C7-497E-BC71-EC32A26D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192-5F25-4A70-A8CC-3DD61F0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BDE-6048-4280-87A5-8F204FD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294-2E65-4043-B7EB-8E515A36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8ED-4F4D-42A3-9475-1F890724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E89-F64D-4DF8-AAEF-1AAC763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FB9-B4DB-4F01-AF7C-DCC030F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403-7F96-4116-822E-DCBEFDD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21709-F169-4E03-AD06-158C2C805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